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40F-0453-4FD5-AA92-20977D00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2C2-CFE6-44AE-B578-7FF66BB9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6F8-17A8-4350-B717-2EAEF652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B023-6AEC-4C52-AC85-A9707A25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6457-83E7-4148-8518-B1C4E723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EFB1-90C9-4205-9322-0B7E733A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5BC9-3929-4288-ADCA-7ABBFBD5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ABD7-0741-4FD3-84A2-6B6AD13F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48FC-D9C2-4443-BB1A-36F2D4AA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0879-FEAF-4246-8A17-8216FBDE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EB4E-073F-4057-882F-AD3A542E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C2A-F52B-49C8-8EB9-15BBA1B7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55F9-633E-4916-9402-739893CD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3936-4D5E-4B67-B352-04272F82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7E75-9138-4348-BABA-76E389E8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03DA-57EB-446A-BB19-4E60D190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CDFF-9855-4FE6-8ADD-3229952A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1B8-3039-4CEC-8254-41F4E160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E28-5202-4F1B-B298-4FA393D6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987-723C-4DA8-865A-DC09A0B1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992-5FAC-4080-AE00-4CF32E36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C98-3183-4851-83B2-004E6603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632-F19A-423A-9D85-EB369843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EFA-597D-453D-AE5A-294FAAE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181B-C238-487A-AFDE-8B8C2BF0D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E192-B78A-4F06-83D5-235CF0D65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 we will learn the necessary components of Story Stru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good script has a main character who is a good person or bad pers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ood person is called the Protagonist, also known as the hero/heroine.  They must have a goal!  NOTE: If your main character is bad, they’re called an Anti-He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5" descr="http://blogs.orlandosentinel.com/entertainment_movies_blog/files/2010/10/darkknight.jpg"/>
          <p:cNvPicPr/>
          <p:nvPr/>
        </p:nvPicPr>
        <p:blipFill>
          <a:blip r:embed="rId1"/>
          <a:stretch/>
        </p:blipFill>
        <p:spPr>
          <a:xfrm>
            <a:off x="2438280" y="4000680"/>
            <a:ext cx="4286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d person is called the Antagonist (also known as the villain)!  They must have a goal that is the opposite of the Protagonis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http://t0.gstatic.com/images?q=tbn:ANd9GcS3qxawh3G-juMDvUJ3ll6ossFxRyCyvvnucgXsLgdPmIWasXFjQg"/>
          <p:cNvPicPr/>
          <p:nvPr/>
        </p:nvPicPr>
        <p:blipFill>
          <a:blip r:embed="rId1"/>
          <a:stretch/>
        </p:blipFill>
        <p:spPr>
          <a:xfrm>
            <a:off x="4572000" y="3581280"/>
            <a:ext cx="245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script must have conflict; without conflict, there is no drama!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ind the conflict, ask yourself what is your main character(s) fighting for/what is their goal (for example, if your protagonist is a student who wants to study, then your antagonist might want to convince/persuade the protagonist to do something else/to come over to the “dark side”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ing to writ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CC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To start your story/play/film script (screenplay), you need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ce/set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a relationship between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arac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especially your hero and villai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o start your story, you need a beginning, middle, and an end/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with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fli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(Two Peop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Every good script has a main___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What is the good person called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What does the good person need to h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What is the bad person call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What does the bad person need to h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What does every good script ne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How do you find the confli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To start writing you need what 4 thing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1-11-17T20:56:25Z</dcterms:modified>
  <cp:revision>82</cp:revision>
  <dc:subject/>
  <dc:title>Legacy Life Skills</dc:title>
</cp:coreProperties>
</file>